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06A-CE66-4A0E-9FB7-5EAED8EA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E64-FD24-4F9A-BAF0-3077DC14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EBE-6CC2-4678-96D4-121CCBD4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A78-8881-41C3-923E-2006D854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7E21-5E4F-4744-8881-00435454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6D4-0DAA-44D9-A7B9-46091C72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68BB-B0C6-4724-86C1-7E6CA100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41E9-E433-4C99-9DD4-1B3CD56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24DF-1D82-4F8D-9CDE-64DCB5A2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6B77-8A54-4CD9-A408-381E826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1614-87BB-41DD-943D-B1B8F523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600-EEF8-40C7-AD7C-2F3D6F4D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6F6-82B4-4F13-97E5-3EF40B32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EFF6-EEF4-47E7-818B-15A33588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B088-837E-4BBC-8388-7443E22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9F03-06F1-4E6E-BDD7-F77C85F7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6C80-6569-49CD-AEFF-9314A6DB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962-0D93-4A01-8740-6305C5BC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0F4-DBEA-4975-A66F-45433B4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A9A-9D94-4ED1-90CA-D73E4122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0ED-673F-4A1C-801E-C354D1C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8FB-7C09-474C-BE74-E0CACE9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538-C824-4D44-8CC7-838344A9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15D-0EC1-4FDF-9E7D-2558C3DA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4947-F73B-4A4B-8EEA-1537EA2D7C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9583-A513-4664-BFD8-B42C70B5AF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0C72-74B9-418A-B6F4-FC5EE6C9A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14400" y="3124080"/>
            <a:ext cx="67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ISTEMUL  EDUCATIONAL  DIN  ROM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12760" y="16200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6652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355760" y="237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447920" y="533520"/>
            <a:ext cx="6340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OM</a:t>
            </a:r>
            <a:r>
              <a:rPr b="1" lang="ro-RO" sz="2400" spc="-1" strike="noStrike">
                <a:solidFill>
                  <a:srgbClr val="ffffff"/>
                </a:solidFill>
                <a:latin typeface="Arial Narrow"/>
              </a:rPr>
              <a:t>Â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1" lang="ro-RO" sz="1800" spc="-1" strike="noStrike">
                <a:solidFill>
                  <a:srgbClr val="ffffff"/>
                </a:solidFill>
                <a:latin typeface="Arial Narrow"/>
              </a:rPr>
              <a:t>INISTERUL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o-RO" sz="1800" spc="-1" strike="noStrike">
                <a:solidFill>
                  <a:srgbClr val="ffffff"/>
                </a:solidFill>
                <a:latin typeface="Arial Narrow"/>
              </a:rPr>
              <a:t>EDUCAŢIEI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ro-RO" sz="1800" spc="-1" strike="noStrike">
                <a:solidFill>
                  <a:srgbClr val="ffffff"/>
                </a:solidFill>
                <a:latin typeface="Arial Narrow"/>
              </a:rPr>
              <a:t>CERCETĂRII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 SI   TINERET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680240" y="6192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80B8-F4DE-4D62-940D-D128721D6F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POSTUNIVERSITA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ISCED 6) oferă următoarele programe de studi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studii aprofundate de specializare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u durata de 2-3 semest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studii aprofundat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masterat</a:t>
            </a: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u durata de 2-4 semestre, finalizat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mas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studii academice postuniversit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u durata de 2-4 semest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studii academice postuniversita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doctorat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u o durată de 4 ani, finalizat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docto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studii postuniversit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de specializare cu durata stabilită de către senatele universita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studii postuniversitare de specializar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cursuri postuniversitare de perfecţion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u durata stabilită de către senatele universitare, finalizate cu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certificate de absolvi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8BDD-D7B8-4CD6-90EB-EC3368A16D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905120" y="457200"/>
            <a:ext cx="12952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I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ET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905120" y="2362320"/>
            <a:ext cx="1295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I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HNOLOG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981080" y="4876920"/>
            <a:ext cx="1219320" cy="609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I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CATIONA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505320" y="1522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Uma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505320" y="7621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505320" y="17524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Tehn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505320" y="23623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505320" y="2971800"/>
            <a:ext cx="327636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urse naturale si protectia mediul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876920" y="152280"/>
            <a:ext cx="411480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i :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Filologi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Ştiinţe sociale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876920" y="762120"/>
            <a:ext cx="411480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 : 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Matematică–informatică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Ştiinţe ale naturii</a:t>
            </a:r>
            <a:r>
              <a:rPr b="1" lang="en-GB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3505320" y="38098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litar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3505320" y="44197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olog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3505320" y="502920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tist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3505320" y="563868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dagogic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3505320" y="6248520"/>
            <a:ext cx="114300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f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ortiv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0" y="3124080"/>
            <a:ext cx="1752480" cy="1143000"/>
          </a:xfrm>
          <a:prstGeom prst="ellipse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RU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VATAMANTULU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C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4800600" y="3809880"/>
            <a:ext cx="419112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 :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Ştiinţe social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Matematică–informatic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4800600" y="4419720"/>
            <a:ext cx="419112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: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Teologie: teologic ortodox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Teologie: patrimoniu cultural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Teologie: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ul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>
            <a:off x="4800600" y="5029200"/>
            <a:ext cx="419112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i: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hitectură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te ambientale şi design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plastice şi decorativ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Muzică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Coregrafi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Arta actorului</a:t>
            </a: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4800600" y="5638680"/>
            <a:ext cx="4191120" cy="609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99"/>
                </a:solidFill>
                <a:latin typeface="Arial"/>
              </a:rPr>
              <a:t>Specializa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: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Învăţător-educatoar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Bibliotecar-documentaris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Instructor-animator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Instructor pentru activităţi extraşcolar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000099"/>
                </a:solidFill>
                <a:latin typeface="Arial"/>
              </a:rPr>
              <a:t>Pedagog şcolar</a:t>
            </a:r>
            <a:r>
              <a:rPr b="0" lang="ro-RO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3200400" y="411444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1"/>
          <p:cNvSpPr/>
          <p:nvPr/>
        </p:nvSpPr>
        <p:spPr>
          <a:xfrm flipV="1">
            <a:off x="3200400" y="464796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2"/>
          <p:cNvSpPr/>
          <p:nvPr/>
        </p:nvSpPr>
        <p:spPr>
          <a:xfrm>
            <a:off x="3200400" y="5181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33"/>
          <p:cNvSpPr/>
          <p:nvPr/>
        </p:nvSpPr>
        <p:spPr>
          <a:xfrm>
            <a:off x="3200400" y="518148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4"/>
          <p:cNvSpPr/>
          <p:nvPr/>
        </p:nvSpPr>
        <p:spPr>
          <a:xfrm>
            <a:off x="3200400" y="5181480"/>
            <a:ext cx="3049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35"/>
          <p:cNvSpPr/>
          <p:nvPr/>
        </p:nvSpPr>
        <p:spPr>
          <a:xfrm>
            <a:off x="3200400" y="2590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36"/>
          <p:cNvSpPr/>
          <p:nvPr/>
        </p:nvSpPr>
        <p:spPr>
          <a:xfrm flipV="1">
            <a:off x="3200400" y="1981080"/>
            <a:ext cx="304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3200400" y="259092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38"/>
          <p:cNvSpPr/>
          <p:nvPr/>
        </p:nvSpPr>
        <p:spPr>
          <a:xfrm flipV="1">
            <a:off x="3200400" y="3805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39"/>
          <p:cNvSpPr/>
          <p:nvPr/>
        </p:nvSpPr>
        <p:spPr>
          <a:xfrm>
            <a:off x="3200400" y="6858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40"/>
          <p:cNvSpPr/>
          <p:nvPr/>
        </p:nvSpPr>
        <p:spPr>
          <a:xfrm>
            <a:off x="4648320" y="380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41"/>
          <p:cNvSpPr/>
          <p:nvPr/>
        </p:nvSpPr>
        <p:spPr>
          <a:xfrm>
            <a:off x="4648320" y="990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464832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46483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4"/>
          <p:cNvSpPr/>
          <p:nvPr/>
        </p:nvSpPr>
        <p:spPr>
          <a:xfrm>
            <a:off x="46483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4648320" y="5943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46"/>
          <p:cNvSpPr/>
          <p:nvPr/>
        </p:nvSpPr>
        <p:spPr>
          <a:xfrm flipV="1">
            <a:off x="1752480" y="838080"/>
            <a:ext cx="15264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47"/>
          <p:cNvSpPr/>
          <p:nvPr/>
        </p:nvSpPr>
        <p:spPr>
          <a:xfrm flipV="1">
            <a:off x="1752480" y="2895120"/>
            <a:ext cx="228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48"/>
          <p:cNvSpPr/>
          <p:nvPr/>
        </p:nvSpPr>
        <p:spPr>
          <a:xfrm>
            <a:off x="1752480" y="3657600"/>
            <a:ext cx="2286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29B-E597-495D-8BA6-D0EB3F45B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IECTIVELE  REFORMEI  SISTEM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990720" y="1676520"/>
            <a:ext cx="5972040" cy="2206440"/>
            <a:chOff x="990720" y="1676520"/>
            <a:chExt cx="5972040" cy="2206440"/>
          </a:xfrm>
        </p:grpSpPr>
        <p:sp>
          <p:nvSpPr>
            <p:cNvPr id="256" name="AutoShape 4"/>
            <p:cNvSpPr/>
            <p:nvPr/>
          </p:nvSpPr>
          <p:spPr>
            <a:xfrm>
              <a:off x="990720" y="1676520"/>
              <a:ext cx="597204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990720" y="1676520"/>
              <a:ext cx="279792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6"/>
            <p:cNvSpPr/>
            <p:nvPr/>
          </p:nvSpPr>
          <p:spPr>
            <a:xfrm>
              <a:off x="4164480" y="1676520"/>
              <a:ext cx="279828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7"/>
          <p:cNvGrpSpPr/>
          <p:nvPr/>
        </p:nvGrpSpPr>
        <p:grpSpPr>
          <a:xfrm>
            <a:off x="2819520" y="4191120"/>
            <a:ext cx="5972040" cy="2206440"/>
            <a:chOff x="2819520" y="4191120"/>
            <a:chExt cx="5972040" cy="2206440"/>
          </a:xfrm>
        </p:grpSpPr>
        <p:sp>
          <p:nvSpPr>
            <p:cNvPr id="260" name="AutoShape 8"/>
            <p:cNvSpPr/>
            <p:nvPr/>
          </p:nvSpPr>
          <p:spPr>
            <a:xfrm>
              <a:off x="2819520" y="4191120"/>
              <a:ext cx="597204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2819520" y="4191120"/>
              <a:ext cx="279792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5993280" y="4191120"/>
              <a:ext cx="2798280" cy="2206440"/>
            </a:xfrm>
            <a:prstGeom prst="horizontalScroll">
              <a:avLst>
                <a:gd name="adj" fmla="val 12500"/>
              </a:avLst>
            </a:prstGeom>
            <a:solidFill>
              <a:srgbClr val="75b3f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11"/>
          <p:cNvSpPr/>
          <p:nvPr/>
        </p:nvSpPr>
        <p:spPr>
          <a:xfrm>
            <a:off x="1295280" y="2057400"/>
            <a:ext cx="236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Creşterea calităţii procesului educaţional, ca bază a realizării societăţii cunoaşterii în Româ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4343400" y="205740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igurarea pregătirii resurselor umane atât prin învăţământul formal obişnuit, cât şi prin filiere ale educaţiei permanen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048120" y="4419720"/>
            <a:ext cx="22096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ezvoltarea competenţelor necesare abordării învăţării pe tot parcursul vieţi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6248520" y="4343400"/>
            <a:ext cx="25812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Dezvoltarea coeziunii sociale şi creşterea participării cetăţenilor la programele de dezvoltare în domeniul economic, social şi educaţiona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D0F0-0C04-4CD9-BE97-9A3F33BDF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5400000">
            <a:off x="2479320" y="56808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 rot="5400000">
            <a:off x="2479680" y="3692520"/>
            <a:ext cx="67608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 rot="5400000">
            <a:off x="2479320" y="270180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 rot="5400000">
            <a:off x="2479680" y="1635120"/>
            <a:ext cx="67608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429000" y="15192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Asigurarea educaţiei de bază pentru toţi cetăţenii şi dezvoltarea competenţelor cheie</a:t>
            </a:r>
            <a:r>
              <a:rPr b="1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429000" y="1281240"/>
            <a:ext cx="5257800" cy="821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Realizarea echităţii în educaţie</a:t>
            </a:r>
            <a:r>
              <a:rPr b="0" lang="ro-RO" sz="16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3429000" y="335232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Fundamentarea învăţării pe baza nevoilor de dezvoltare personală şi profesională a tinerilor, din perspectiva dezvoltării durabile şi a asigurării coeziunii economice şi sociale</a:t>
            </a:r>
            <a:r>
              <a:rPr b="0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3429000" y="559368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Deschiderea sistemului educaţional şi de formare profesională către societate în ansamblu, către mediul economic, social şi cultural</a:t>
            </a:r>
            <a:r>
              <a:rPr b="0" lang="en-US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 rot="5400000">
            <a:off x="2479320" y="475920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 rot="5400000">
            <a:off x="2479320" y="5825880"/>
            <a:ext cx="676440" cy="3016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3429000" y="4465080"/>
            <a:ext cx="5257800" cy="94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Asigurarea şi recunoaşterea complementarităţii dintre educaţia formală, non-formală şi informală, învăţarea permanentă devenind unul din pilonii de bază ai politicii educaţionale</a:t>
            </a:r>
            <a:r>
              <a:rPr b="0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3429000" y="2391840"/>
            <a:ext cx="5257800" cy="73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ro-RO" sz="1400" spc="-1" strike="noStrike">
                <a:solidFill>
                  <a:srgbClr val="660066"/>
                </a:solidFill>
                <a:latin typeface="바탕"/>
              </a:rPr>
              <a:t>Creşterea calităţii procesului de predare/învăţare, precum şi a celorlalte servicii educaţionale</a:t>
            </a:r>
            <a:r>
              <a:rPr b="1" lang="ro-RO" sz="1400" spc="-1" strike="noStrike">
                <a:solidFill>
                  <a:srgbClr val="660066"/>
                </a:solidFill>
                <a:latin typeface="바탕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30"/>
          <p:cNvSpPr/>
          <p:nvPr/>
        </p:nvSpPr>
        <p:spPr>
          <a:xfrm>
            <a:off x="304920" y="2286000"/>
            <a:ext cx="2133360" cy="1828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A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26C-E0DC-41F9-8C68-CC6D8EDB8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8120" y="533160"/>
            <a:ext cx="320040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바탕"/>
              </a:rPr>
              <a:t>politici  curricula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6781680" y="990720"/>
            <a:ext cx="2138400" cy="1143000"/>
          </a:xfrm>
          <a:prstGeom prst="wedgeRoundRectCallout">
            <a:avLst>
              <a:gd name="adj1" fmla="val -75018"/>
              <a:gd name="adj2" fmla="val -35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Asigurarea egalităţii şanselor şi a parcursului individual în învăţ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6629400" y="2590920"/>
            <a:ext cx="2138400" cy="1143000"/>
          </a:xfrm>
          <a:prstGeom prst="wedgeRoundRectCallout">
            <a:avLst>
              <a:gd name="adj1" fmla="val -74129"/>
              <a:gd name="adj2" fmla="val -130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Selectarea şi gruparea domeniilor cunoaşterii în arii curricul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5943600" y="4038480"/>
            <a:ext cx="2138400" cy="1143000"/>
          </a:xfrm>
          <a:prstGeom prst="wedgeRoundRectCallout">
            <a:avLst>
              <a:gd name="adj1" fmla="val -71902"/>
              <a:gd name="adj2" fmla="val -256805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scentraliz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380880" y="990720"/>
            <a:ext cx="2138400" cy="1143000"/>
          </a:xfrm>
          <a:prstGeom prst="wedgeRoundRectCallout">
            <a:avLst>
              <a:gd name="adj1" fmla="val 74648"/>
              <a:gd name="adj2" fmla="val -326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Asigurarea funcţionalităţii şi coerenţei parcursului şco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304920" y="2666880"/>
            <a:ext cx="2138400" cy="1143000"/>
          </a:xfrm>
          <a:prstGeom prst="wedgeRoundRectCallout">
            <a:avLst>
              <a:gd name="adj1" fmla="val 84449"/>
              <a:gd name="adj2" fmla="val -135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Asigurarea relevanţei sociale a procesului de predare/învăţ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2"/>
          <p:cNvSpPr/>
          <p:nvPr/>
        </p:nvSpPr>
        <p:spPr>
          <a:xfrm>
            <a:off x="990720" y="4114800"/>
            <a:ext cx="2138400" cy="1143000"/>
          </a:xfrm>
          <a:prstGeom prst="wedgeRoundRectCallout">
            <a:avLst>
              <a:gd name="adj1" fmla="val 71083"/>
              <a:gd name="adj2" fmla="val -260138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Compatibilizare cu standardele internaţional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3"/>
          <p:cNvSpPr/>
          <p:nvPr/>
        </p:nvSpPr>
        <p:spPr>
          <a:xfrm>
            <a:off x="4800600" y="5410080"/>
            <a:ext cx="2138400" cy="1143000"/>
          </a:xfrm>
          <a:prstGeom prst="wedgeRoundRectCallout">
            <a:avLst>
              <a:gd name="adj1" fmla="val -40722"/>
              <a:gd name="adj2" fmla="val -378472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ficientiz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4"/>
          <p:cNvSpPr/>
          <p:nvPr/>
        </p:nvSpPr>
        <p:spPr>
          <a:xfrm>
            <a:off x="2514600" y="5410080"/>
            <a:ext cx="2138400" cy="1143000"/>
          </a:xfrm>
          <a:prstGeom prst="wedgeRoundRectCallout">
            <a:avLst>
              <a:gd name="adj1" fmla="val 35893"/>
              <a:gd name="adj2" fmla="val -379305"/>
              <a:gd name="adj3" fmla="val 1666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lexibiliz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7D6F-628A-43D2-B980-75BC7AC7D1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305928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5530-2CEA-4674-9231-92EBF2CBC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formele initi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pa caderea comunismulu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 cadrul sistemului educational romanesc, au vizat adaptarea educatiei la cerintele in schimbare ale societatii si la cele legate de aderarea la Uniunea Europeana si au inclu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schimbarea curriculumulu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evaluarea elevil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formarea profesorilo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finanţar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- management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l</a:t>
            </a:r>
            <a:r>
              <a:rPr b="1" i="1" lang="ro-RO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B042-63C2-401D-928C-95A1464E35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>
            <a:lum contrast="6000"/>
            <a:alphaModFix amt="70000"/>
          </a:blip>
          <a:stretch/>
        </p:blipFill>
        <p:spPr>
          <a:xfrm>
            <a:off x="685800" y="914400"/>
            <a:ext cx="78487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ubstituent număr diapozitiv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BD5-F5AE-4C52-B8CE-9A21A45510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STEMULUI  DE  INVATAMAN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  DE  FORMARE  PROFESIONALA  INITI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mplementată începând cu anul şcolar 2003/2004, e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7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eprezentată în organigrama alăturat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F5DD-DAD9-4266-B2A6-9A702FC0A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504960" y="6324120"/>
            <a:ext cx="198108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EPRIMAR  ( 2-3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505320" y="5867280"/>
            <a:ext cx="198108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IMAR  ( 4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743200" y="5410080"/>
            <a:ext cx="34290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SECUNDAR   INFERIOR-GENERAL  (4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286000" y="4343400"/>
            <a:ext cx="4457880" cy="8002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SECUNDAR    INFERIOR  (2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2286000" y="4343400"/>
            <a:ext cx="2171880" cy="571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ICLUL INFERIOR AL LICEULU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4572000" y="4343400"/>
            <a:ext cx="2171880" cy="571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SCOALA  DE ARTE SI  MESER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4724280" y="3809880"/>
            <a:ext cx="1981440" cy="312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 DE COMPLET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286000" y="3200400"/>
            <a:ext cx="44197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 SECUNDAR   SUPER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CICLUL   SUPERIOR   AL   LICEULU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2-3 ani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867280" y="2209680"/>
            <a:ext cx="1371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POST SECUND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447920" y="762120"/>
            <a:ext cx="331452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 TERTI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1523880" y="1828800"/>
            <a:ext cx="312444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SUPERIOR DE  SCURTA  DUR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2-3 an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1523880" y="914400"/>
            <a:ext cx="3124440" cy="800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SUPERIOR DE  LUNGA  DUR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(4-6 an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447920" y="152280"/>
            <a:ext cx="3314520" cy="40320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VATAMANT   POSTUNIVERSIT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 flipV="1">
            <a:off x="4419720" y="6171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 flipV="1">
            <a:off x="4419720" y="57146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441972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5638680" y="4114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 flipV="1">
            <a:off x="5638680" y="36572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 flipV="1">
            <a:off x="3429000" y="36572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4800600" y="2895120"/>
            <a:ext cx="1676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H="1" flipV="1">
            <a:off x="3123720" y="2895120"/>
            <a:ext cx="1676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3124080" y="5331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7467480" y="51814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0000"/>
                </a:solidFill>
                <a:latin typeface="Arial"/>
              </a:rPr>
              <a:t>EXA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7467480" y="28954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0000"/>
                </a:solidFill>
                <a:latin typeface="Arial"/>
              </a:rPr>
              <a:t>EXA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4419720" y="5334120"/>
            <a:ext cx="30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617220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ubstituent număr diapozitiv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03A2-F215-44FC-8832-868BD85E44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234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PREPRIMA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nivelul ISCED 0) urmăreşte socializarea copiilor şi dezvoltarea lor din punct de vedere fizic, emoţional şi cognitiv, prin activităţi specif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4720" indent="-2347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cest nivel de învăţământ cuprinde copii între 3 şi 6 ani şi se desfăşoară în instituţii specializate numite </a:t>
            </a:r>
            <a:r>
              <a:rPr b="1" i="1" lang="ro-RO" sz="2000" spc="-1" strike="noStrike">
                <a:solidFill>
                  <a:srgbClr val="9900ff"/>
                </a:solidFill>
                <a:latin typeface="Arial"/>
              </a:rPr>
              <a:t>grădiniţe</a:t>
            </a: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ele mai multe fiind publice. Participarea copiilor în grădiniţe este gratuită şi opţională, ultimul an asigurând pregătirea pentru intrarea în învăţământul prim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4720" indent="-2347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G</a:t>
            </a:r>
            <a:r>
              <a:rPr b="1" i="1" lang="ro-RO" sz="2000" spc="-1" strike="noStrike">
                <a:solidFill>
                  <a:srgbClr val="9900ff"/>
                </a:solidFill>
                <a:latin typeface="Arial"/>
              </a:rPr>
              <a:t>rup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grupa mic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3-4 a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grupa mijloc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-5 a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grupa mare – pregătito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5-6 ani)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P</a:t>
            </a:r>
            <a:r>
              <a:rPr b="0" lang="ro-RO" sz="2000" spc="-1" strike="noStrike">
                <a:solidFill>
                  <a:srgbClr val="9900ff"/>
                </a:solidFill>
                <a:latin typeface="Arial"/>
              </a:rPr>
              <a:t>rogram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ul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normal (5 ore/zi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elungit (10 ore/z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2120" indent="-200880">
              <a:spcBef>
                <a:spcPts val="499"/>
              </a:spcBef>
              <a:buClr>
                <a:srgbClr val="ffffff"/>
              </a:buClr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ăptămânal (5 zile/săptămân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DDE-51E7-4070-A69B-FE4259881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1532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Ş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COLARIZAREA  OBLIGATORI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durează 10 ani şi cuprinde trei 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e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învăţământul prima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1, cu o durată de 4 ani)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prima fază a învăţământului secundar inferior – genera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2), cu o durată de 4 ani), desfăşurat în gimnazi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doua fază a învăţământului secundar inferio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2), cu o durată de 2 ani), care se poate desfăşura î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o-RO" sz="2000" spc="-1" strike="noStrike">
                <a:solidFill>
                  <a:srgbClr val="e4f600"/>
                </a:solidFill>
                <a:latin typeface="Arial"/>
              </a:rPr>
              <a:t>ciclul inferior al liceulu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învăţământ general sau specializ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o-RO" sz="2000" spc="-1" strike="noStrike">
                <a:solidFill>
                  <a:srgbClr val="e4f600"/>
                </a:solidFill>
                <a:latin typeface="Arial"/>
              </a:rPr>
              <a:t>şcoala de arte şi meseri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învăţământ profesional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1FE7-58BF-44C9-8978-8D2B8C288B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SECUNDAR  SUPERIO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nivelul ISCED 3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prin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ciclul superior al liceulu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2-3 ani), precedat în cazul absolvenţilor şcolii de arte şi meserii de anul de completa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nul de completare oferă absolvenţilor şcolii de arte şi meserii posibilitatea de a atinge nivelul educaţional necesar continuării studiilor în ciclul superior al liceului şi de a obţine o calificare profesională superioar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iclul superior al liceului oferă cursuri generale şi de specializare, care conduc către continuarea studiilor î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nvăţământul postsecunda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o-RO" sz="2000" spc="-1" strike="noStrike">
                <a:solidFill>
                  <a:srgbClr val="e4f600"/>
                </a:solidFill>
                <a:latin typeface="Arial"/>
              </a:rPr>
              <a:t>postlicea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- nivelul ISCED 4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nvăţământul superior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nivelul ISCED 5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ubstituent număr diapozitiv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AB41-0865-4307-BF24-94A9EA014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76960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3399"/>
                </a:solidFill>
                <a:uFillTx/>
                <a:latin typeface="Arial"/>
              </a:rPr>
              <a:t>Î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NVATAMANTUL  TERTIAR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 nivelul ISCED 5) cuprin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învăţământul superior de scurtă durată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(2-3 ani) asigurat de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colegii universit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absolventii primesc </a:t>
            </a: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diplomă de absolv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ff"/>
                </a:solidFill>
                <a:latin typeface="Arial"/>
              </a:rPr>
              <a:t>învăţământul superior de lungă durat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(4-6 ani) desfăşurat î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universităţ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f6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institut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f6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e4f600"/>
                </a:solidFill>
                <a:latin typeface="Arial"/>
              </a:rPr>
              <a:t>academii</a:t>
            </a:r>
            <a:r>
              <a:rPr b="0" lang="en-US" sz="2000" spc="-1" strike="noStrike">
                <a:solidFill>
                  <a:srgbClr val="e4f6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ventii primesc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ploma de lic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8:04:08Z</dcterms:created>
  <dc:creator>Viorel</dc:creator>
  <dc:description/>
  <dc:language>en-US</dc:language>
  <cp:lastModifiedBy>Carmen</cp:lastModifiedBy>
  <dcterms:modified xsi:type="dcterms:W3CDTF">2011-02-11T14:58:37Z</dcterms:modified>
  <cp:revision>193</cp:revision>
  <dc:subject/>
  <dc:title>Slide 1</dc:title>
</cp:coreProperties>
</file>